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078-492C-4769-94ED-4506E300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AC7-B0FC-442F-86BD-A6295E89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C10-1413-46DE-AD46-42FCDAC3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D59-F31D-41B2-A1C4-883B9D56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C9E-B0E0-4BF2-9AB9-27AC953E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6C6-77D1-458C-9B2D-49042025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431E-D416-466A-8D22-C570227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5D8-0CB1-419C-BB80-B6D4A05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604-83E7-40C7-AA91-BAF385A8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127A-F50E-4C41-9EF3-912ADB34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5B58-0804-434E-925A-542B8F0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EBEB-58C4-4EDC-A6F2-26A90021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C5A-7B71-416D-8EAA-1550EB2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20D-EAC0-491D-BD54-4E2D9BF6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F55F-6A43-4D12-BCC1-4C54168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4907-97B5-45B4-AF0B-CF9813A3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EA32-EF69-49BE-81F3-1490F29B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08F3-6A5C-4A8E-B0E0-A6C592DD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E633-59E3-48B2-9596-DB78502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2CA-2428-4771-949B-C10B81C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797-B50F-44D4-8B71-1B56EF1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C6-FF77-4123-B0CA-3E5E2FBB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1C3-579F-424F-9827-97DCAAD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6F6-3282-4195-918D-CF19D4C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482-CEAE-4E41-98D2-C98D6C4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C62-9083-4F82-8F1B-B7C7021F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E60-D9CB-4832-A74C-6EA15B17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7FF2-2571-4D06-84D7-FEE59A386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What is Inquiry?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04960" y="2819520"/>
            <a:ext cx="505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 ve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914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Let’s separate the major components of milk!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873160" cy="2027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793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1971720"/>
            <a:ext cx="6400080" cy="3618720"/>
            <a:chOff x="2209680" y="1971720"/>
            <a:chExt cx="6400080" cy="3618720"/>
          </a:xfrm>
        </p:grpSpPr>
        <p:cxnSp>
          <p:nvCxnSpPr>
            <p:cNvPr id="114" name="_s71685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6540840" y="378000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1686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5183280" y="378072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71687"/>
            <p:cNvCxnSpPr>
              <a:stCxn id="116" idx="0"/>
              <a:endCxn id="120" idx="2"/>
            </p:cNvCxnSpPr>
            <p:nvPr/>
          </p:nvCxnSpPr>
          <p:spPr>
            <a:xfrm flipV="1" rot="16200000">
              <a:off x="5183280" y="2423160"/>
              <a:ext cx="452880" cy="135792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71688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3825720" y="2423160"/>
              <a:ext cx="452880" cy="1358640"/>
            </a:xfrm>
            <a:prstGeom prst="bentConnector3">
              <a:avLst>
                <a:gd name="adj1" fmla="val 221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71689"/>
            <p:cNvSpPr/>
            <p:nvPr/>
          </p:nvSpPr>
          <p:spPr>
            <a:xfrm>
              <a:off x="3567600" y="197172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71690"/>
            <p:cNvSpPr/>
            <p:nvPr/>
          </p:nvSpPr>
          <p:spPr>
            <a:xfrm>
              <a:off x="220968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691"/>
            <p:cNvSpPr/>
            <p:nvPr/>
          </p:nvSpPr>
          <p:spPr>
            <a:xfrm>
              <a:off x="4924800" y="33285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692"/>
            <p:cNvSpPr/>
            <p:nvPr/>
          </p:nvSpPr>
          <p:spPr>
            <a:xfrm>
              <a:off x="356760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693"/>
            <p:cNvSpPr/>
            <p:nvPr/>
          </p:nvSpPr>
          <p:spPr>
            <a:xfrm>
              <a:off x="6282720" y="4685760"/>
              <a:ext cx="2327040" cy="904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6000" y="4267080"/>
            <a:ext cx="65530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Separating Curds and Whey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ilk Components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09680" y="2057400"/>
            <a:ext cx="6248160" cy="3533040"/>
            <a:chOff x="2209680" y="2057400"/>
            <a:chExt cx="6248160" cy="3533040"/>
          </a:xfrm>
        </p:grpSpPr>
        <p:cxnSp>
          <p:nvCxnSpPr>
            <p:cNvPr id="129" name="_s81925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437880" y="38228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81926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5112360" y="382356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1927"/>
            <p:cNvCxnSpPr>
              <a:stCxn id="131" idx="0"/>
              <a:endCxn id="135" idx="2"/>
            </p:cNvCxnSpPr>
            <p:nvPr/>
          </p:nvCxnSpPr>
          <p:spPr>
            <a:xfrm flipV="1" rot="16200000">
              <a:off x="5112360" y="2498040"/>
              <a:ext cx="442080" cy="13255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1928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3787200" y="2498040"/>
              <a:ext cx="442080" cy="132624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81929"/>
            <p:cNvSpPr/>
            <p:nvPr/>
          </p:nvSpPr>
          <p:spPr>
            <a:xfrm>
              <a:off x="3535200" y="20574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30"/>
            <p:cNvSpPr/>
            <p:nvPr/>
          </p:nvSpPr>
          <p:spPr>
            <a:xfrm>
              <a:off x="220968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81931"/>
            <p:cNvSpPr/>
            <p:nvPr/>
          </p:nvSpPr>
          <p:spPr>
            <a:xfrm>
              <a:off x="4860000" y="338220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Buttermil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1932"/>
            <p:cNvSpPr/>
            <p:nvPr/>
          </p:nvSpPr>
          <p:spPr>
            <a:xfrm>
              <a:off x="353520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Casein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protein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1933"/>
            <p:cNvSpPr/>
            <p:nvPr/>
          </p:nvSpPr>
          <p:spPr>
            <a:xfrm>
              <a:off x="6185880" y="4707360"/>
              <a:ext cx="2271960" cy="88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Whe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Macromolecules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in Milk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720" y="21333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standard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mans use natural systems as resources for growth and developmen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erties of macromolecul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d components and origi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racteristics of mammal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Tahoma"/>
              </a:rPr>
              <a:t>Extensions</a:t>
            </a:r>
            <a:endParaRPr b="1" lang="en-US" sz="6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nalyze each milk phase for macromolecu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calculate the % of each macromolecu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apply separation techniques to other foo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1749"/>
              </a:spcBef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can research cheese mak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Partner Work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6553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am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e for pres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cide on topic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two relevant activities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Searching for activities on the web: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variety of topic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 specific if you know what you wan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teaching words such 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ivity, classroom activity, high school lab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ignore activities designed for a different age grou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believe inquiry label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National Science Education Standard Topics for Grades 9-12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440" y="228564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of the c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flow in eco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energy/dig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3760" y="228564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us 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tion of population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1142640"/>
            <a:ext cx="6705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Inquiry teaching is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based on </a:t>
            </a:r>
            <a:br>
              <a:rPr sz="5400"/>
            </a:b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onstructivism.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172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Constructivism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76480" y="1779120"/>
            <a:ext cx="668664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2001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construct their own knowledg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2001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are not “blank slates.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2001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h new and previous experiences contribute to understand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Traditional Teaching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1828440"/>
            <a:ext cx="6705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as authority fig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hasize knowledge of fac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 and process are separate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bs verify fact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 and eas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 teach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1360" y="5638680"/>
            <a:ext cx="546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!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lthough sometimes appropri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477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Inquiry Teaching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as facilitator and coa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experience scientific proces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bs explore student idea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directed!)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phasis on higher order thinking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w, can be uncomfort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teache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981080"/>
            <a:ext cx="6705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No one can realistically teach all inquiry, all the time.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Tahoma"/>
              </a:rPr>
              <a:t>Inquiry is a continuous spectrum.</a:t>
            </a:r>
            <a:endParaRPr b="1" lang="en-US" sz="6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343400"/>
            <a:ext cx="6553080" cy="304920"/>
          </a:xfrm>
          <a:prstGeom prst="leftRightArrow">
            <a:avLst>
              <a:gd name="adj1" fmla="val 50000"/>
              <a:gd name="adj2" fmla="val 42783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89280" y="4952880"/>
            <a:ext cx="67975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okbook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Open-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What does inquiry teaching incorporate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701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-solv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ion of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pproach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ment of collabo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 world applic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Hands-On Activity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81080" y="2057040"/>
            <a:ext cx="594864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milk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alvin milk"/>
          <p:cNvPicPr/>
          <p:nvPr/>
        </p:nvPicPr>
        <p:blipFill>
          <a:blip r:embed="rId3"/>
          <a:srcRect l="0" t="0" r="0" b="5486"/>
          <a:stretch/>
        </p:blipFill>
        <p:spPr>
          <a:xfrm>
            <a:off x="6477120" y="3352680"/>
            <a:ext cx="230004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1:46Z</dcterms:created>
  <dc:creator>Cynthia J. Moore</dc:creator>
  <dc:description/>
  <dc:language>en-US</dc:language>
  <cp:lastModifiedBy>Cynthia Moore</cp:lastModifiedBy>
  <dcterms:modified xsi:type="dcterms:W3CDTF">2011-01-19T06:15:11Z</dcterms:modified>
  <cp:revision>38</cp:revision>
  <dc:subject/>
  <dc:title>Slide 1</dc:title>
</cp:coreProperties>
</file>